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CBB4-75FA-4784-87B1-FA63B341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948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with photo of othe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143-3B05-468B-A726-F1FB04CF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C23-E5E2-4415-B42D-F789CF43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420-F62B-47C8-92A1-0F6C2E1A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AAC-EF9A-4E3C-881D-E19A0143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32E-0AC0-40FC-A9BE-3F7593CF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B89-1EFA-4C70-AF06-880E7059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296-EA72-4D30-B1B0-6F165B6B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E4C-5B94-46F0-AE3C-6C1AE1CE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BB1-839B-4241-8D21-A334FE48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E4F-7617-46F2-9D35-BD7BC797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BD4-EA15-41A9-B999-6304038A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44E-BA36-4F3B-9D3E-134486F3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F945-0C32-40B1-8691-C810B23A2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Tech Tools and Toys Lab at 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grams: Control of Stepper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9595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3:  X-Y Positio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x and y position of pen attached to positi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MATLAB progra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imple letters (H,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more complicated letters (A, N,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raster pattern, recording the position of pen on a centimete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4:  Speed of Sound in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MHz ultrasound transducer attached to x-y positioner in  aqua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and reflected pulses recorded on oscill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trace downloaded over GPIB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MATLAB to measure delay time from transmit pulse to reflected pu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positioner to change distance to aquarium side and take data of x(i), t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x-t data points and least-squares fit to find slope=speed of sound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5:  Imaging Surface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Use MATLAB program to image aluminum shape under opaque gel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x-y positioner to move 1 MHz transducer in raster pattern in aqu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scope trace of V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with MATLAB to find distance to target at each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3D plot of distance vs. position shows shape of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urface Shape in Opaque Gela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48826" t="25642" r="20938" b="36559"/>
          <a:stretch/>
        </p:blipFill>
        <p:spPr>
          <a:xfrm>
            <a:off x="2209680" y="1252440"/>
            <a:ext cx="579132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a Subsurface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2177" t="11713" r="14761" b="17657"/>
          <a:stretch/>
        </p:blipFill>
        <p:spPr>
          <a:xfrm>
            <a:off x="685800" y="11844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urface Object Ima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43866" t="21382" r="31293" b="48610"/>
          <a:stretch/>
        </p:blipFill>
        <p:spPr>
          <a:xfrm>
            <a:off x="1447920" y="1076400"/>
            <a:ext cx="601956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6:  Introduction to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“Speed of Sound in Air” data using C++ array process and linear regression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-Tech Toys and Tools Object-Sorting Lab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++ program to identify color of video-cam output and actuate stepper motor to sort b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7:  Digita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NI-DAQ program for digital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DIO output with volt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4 DIO 1-bit outputs to drive 4 LED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wise AND and OR operations (&amp; and |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IO output to drive stepper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tion:  Use Analog Input from photocell for positio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– Standard Agilent Test and Measurement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cill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8:  Using Videocam to Recognize Col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vided program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image – image.Captur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pixels – image.GetPixels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array A into 240 rows x 320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RGB values from 24-bit integer (bitwise 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GB values and convert to HSV (Hue-Saturation-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 (hue angle) to determine color of paper on clip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lors (horizontal or vert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co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9:  Sort Ping-Pong Balls by 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color sorting (Vide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color of manually positioned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right or left to receptacle tube 1 o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-color sorting (Video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inear actuator to hold up b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color of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to appropriate receptacle tube (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linear actuator to drop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for n b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++ Control for Color-Sorting in HTT&amp;T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26360" cy="48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Tech Tools and Toys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14800" y="64771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 1:  2-color sorting (click image to st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-Tech Tools and Toys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520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91120" y="6477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 2:  4-color sorting (click image to st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&amp;TL Hardw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V stepper motor and IC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kHz ultrasound transdu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Hz ultrasound transducers and aqu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 positi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tech video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Instruments PCI-6024E A/D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IB bus controller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&amp;TL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Data Acquisition Tool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Instrument Control Tool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Instruments NI-DAQ A/D card controller software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m-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tep.m, cw.m, cc.m, readcell.m, setup_dio.m, direct.m, move.m, setup_tank.m, and pulseecho.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+ programs to download videocam using Pyt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ze.h, Binarize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-Tech Tools and Toys Lab Ultrasound Imaging with 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1: Measuring the Speed of Sound in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45kHz transducers in air (“pitch/catch” configu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time measured by digital oscilloscope – Distance by measuring tape on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10 x vs. t data points measured and plotted in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of sound in air determined by linear least square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:  measure amplitude vs. distance and fit to 1/x dependence [Energy= C*(Amplitude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&amp;TL Acoustic Instrumentation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12720" y="1135080"/>
            <a:ext cx="7123320" cy="53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Speed of Sound in Air (EXC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11200" y="1058760"/>
            <a:ext cx="7224840" cy="54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 2:  MATLAB Programming – Control of Stepper Mo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tive programs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step.m – moves stepper motor on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.m, cw.m – set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cell(dio, voltage) – reads photocell on 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” and “while”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– else”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measure stepper motor degrees per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6:41:44Z</dcterms:created>
  <dc:creator>Stephen McKnight</dc:creator>
  <dc:description/>
  <dc:language>en-US</dc:language>
  <cp:lastModifiedBy>Stephen McKnight</cp:lastModifiedBy>
  <dcterms:modified xsi:type="dcterms:W3CDTF">2008-05-02T20:56:36Z</dcterms:modified>
  <cp:revision>20</cp:revision>
  <dc:subject/>
  <dc:title>Slide 1</dc:title>
</cp:coreProperties>
</file>